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114-F7EE-4182-A717-5953724C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4C6-3BA9-495A-A076-78F2E7C9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6FE-30FD-413E-805F-9BDFF988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693-C08D-4A28-94D9-A85F576D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71C-F8AE-4CD0-9C62-1E0FB9E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0B5-009B-486D-B3F1-2228428C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597-3CE4-4318-9C82-0F7A13D0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DE8-C377-4F49-A5B2-F9CD72CA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F7E-FB13-4B00-B4AC-27F0D0B1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21D-1AE5-403B-94A2-EA316DE8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5BB-569B-4312-B5BF-E870C504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D39-9373-4D40-B48F-09465839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3734-3FB5-4312-8785-FA83C8ACC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371600" y="8348760"/>
            <a:ext cx="990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60948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nda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0948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nstein B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358128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5053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e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"/>
          <p:cNvPicPr/>
          <p:nvPr/>
        </p:nvPicPr>
        <p:blipFill>
          <a:blip r:embed="rId1"/>
          <a:stretch/>
        </p:blipFill>
        <p:spPr>
          <a:xfrm>
            <a:off x="3975120" y="990720"/>
            <a:ext cx="1878120" cy="264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2"/>
          <a:stretch/>
        </p:blipFill>
        <p:spPr>
          <a:xfrm>
            <a:off x="747720" y="562464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"/>
          <p:cNvPicPr/>
          <p:nvPr/>
        </p:nvPicPr>
        <p:blipFill>
          <a:blip r:embed="rId3"/>
          <a:stretch/>
        </p:blipFill>
        <p:spPr>
          <a:xfrm>
            <a:off x="4059360" y="5486400"/>
            <a:ext cx="1709640" cy="2641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4495680" y="8381880"/>
            <a:ext cx="990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1447920" y="4114800"/>
            <a:ext cx="9903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4343400" y="4081320"/>
            <a:ext cx="990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"/>
          <p:cNvPicPr/>
          <p:nvPr/>
        </p:nvPicPr>
        <p:blipFill>
          <a:blip r:embed="rId4"/>
          <a:stretch/>
        </p:blipFill>
        <p:spPr>
          <a:xfrm>
            <a:off x="1295280" y="1387440"/>
            <a:ext cx="13255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358128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09480" y="38811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562200" y="38811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f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609480" y="479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ous Geo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581280" y="479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dur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4" descr=""/>
          <p:cNvPicPr/>
          <p:nvPr/>
        </p:nvPicPr>
        <p:blipFill>
          <a:blip r:embed="rId1"/>
          <a:stretch/>
        </p:blipFill>
        <p:spPr>
          <a:xfrm>
            <a:off x="622440" y="1117440"/>
            <a:ext cx="2641320" cy="264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"/>
          <a:stretch/>
        </p:blipFill>
        <p:spPr>
          <a:xfrm>
            <a:off x="3486240" y="1301760"/>
            <a:ext cx="2857320" cy="227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3"/>
          <a:stretch/>
        </p:blipFill>
        <p:spPr>
          <a:xfrm>
            <a:off x="514440" y="5411880"/>
            <a:ext cx="2857320" cy="22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4"/>
          <a:stretch/>
        </p:blipFill>
        <p:spPr>
          <a:xfrm>
            <a:off x="3987720" y="5334120"/>
            <a:ext cx="1955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358128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09480" y="37749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62200" y="36525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and Mart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5812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B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1"/>
          <a:stretch/>
        </p:blipFill>
        <p:spPr>
          <a:xfrm>
            <a:off x="673200" y="1117440"/>
            <a:ext cx="2539800" cy="264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/>
          <p:cNvPicPr/>
          <p:nvPr/>
        </p:nvPicPr>
        <p:blipFill>
          <a:blip r:embed="rId2"/>
          <a:stretch/>
        </p:blipFill>
        <p:spPr>
          <a:xfrm>
            <a:off x="3486240" y="1415880"/>
            <a:ext cx="2857320" cy="204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990720" y="5538960"/>
            <a:ext cx="1928520" cy="192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/>
          <p:cNvPicPr/>
          <p:nvPr/>
        </p:nvPicPr>
        <p:blipFill>
          <a:blip r:embed="rId4"/>
          <a:stretch/>
        </p:blipFill>
        <p:spPr>
          <a:xfrm>
            <a:off x="4160880" y="5410080"/>
            <a:ext cx="15541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358128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0948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56220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5812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" descr=""/>
          <p:cNvPicPr/>
          <p:nvPr/>
        </p:nvPicPr>
        <p:blipFill>
          <a:blip r:embed="rId1"/>
          <a:stretch/>
        </p:blipFill>
        <p:spPr>
          <a:xfrm>
            <a:off x="914400" y="1117440"/>
            <a:ext cx="2057400" cy="264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2"/>
          <a:stretch/>
        </p:blipFill>
        <p:spPr>
          <a:xfrm>
            <a:off x="4046400" y="1117440"/>
            <a:ext cx="1737000" cy="2641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3"/>
          <a:stretch/>
        </p:blipFill>
        <p:spPr>
          <a:xfrm>
            <a:off x="839880" y="5207040"/>
            <a:ext cx="2206440" cy="264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4"/>
          <a:stretch/>
        </p:blipFill>
        <p:spPr>
          <a:xfrm>
            <a:off x="3594240" y="5207040"/>
            <a:ext cx="26413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358128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0948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56220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Ne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er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5812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 P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"/>
          <p:cNvPicPr/>
          <p:nvPr/>
        </p:nvPicPr>
        <p:blipFill>
          <a:blip r:embed="rId1"/>
          <a:stretch/>
        </p:blipFill>
        <p:spPr>
          <a:xfrm>
            <a:off x="942840" y="1117440"/>
            <a:ext cx="2000520" cy="264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"/>
          <p:cNvPicPr/>
          <p:nvPr/>
        </p:nvPicPr>
        <p:blipFill>
          <a:blip r:embed="rId2"/>
          <a:stretch/>
        </p:blipFill>
        <p:spPr>
          <a:xfrm>
            <a:off x="3944880" y="1117440"/>
            <a:ext cx="1938240" cy="264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3"/>
          <a:stretch/>
        </p:blipFill>
        <p:spPr>
          <a:xfrm>
            <a:off x="990720" y="5511960"/>
            <a:ext cx="1955520" cy="195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"/>
          <p:cNvPicPr/>
          <p:nvPr/>
        </p:nvPicPr>
        <p:blipFill>
          <a:blip r:embed="rId4"/>
          <a:stretch/>
        </p:blipFill>
        <p:spPr>
          <a:xfrm>
            <a:off x="3973680" y="5207040"/>
            <a:ext cx="1881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60948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6220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335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p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0532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ke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4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1709640" cy="2260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1066680" y="5267160"/>
            <a:ext cx="1727280" cy="2428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3"/>
          <p:cNvSpPr/>
          <p:nvPr/>
        </p:nvSpPr>
        <p:spPr>
          <a:xfrm>
            <a:off x="3562200" y="81482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505320" y="46472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 and T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5" descr=""/>
          <p:cNvPicPr/>
          <p:nvPr/>
        </p:nvPicPr>
        <p:blipFill>
          <a:blip r:embed="rId3"/>
          <a:stretch/>
        </p:blipFill>
        <p:spPr>
          <a:xfrm>
            <a:off x="3486240" y="5356080"/>
            <a:ext cx="2857320" cy="2546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"/>
          <p:cNvPicPr/>
          <p:nvPr/>
        </p:nvPicPr>
        <p:blipFill>
          <a:blip r:embed="rId4"/>
          <a:stretch/>
        </p:blipFill>
        <p:spPr>
          <a:xfrm>
            <a:off x="4038480" y="1206360"/>
            <a:ext cx="17020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395748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9480" y="456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t in the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5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1828800" cy="2543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8"/>
          <p:cNvSpPr/>
          <p:nvPr/>
        </p:nvSpPr>
        <p:spPr>
          <a:xfrm>
            <a:off x="3505320" y="400356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505320" y="502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505320" y="8042040"/>
            <a:ext cx="2743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3505320" y="4845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7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2138400" cy="2138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8"/>
          <p:cNvSpPr/>
          <p:nvPr/>
        </p:nvSpPr>
        <p:spPr>
          <a:xfrm>
            <a:off x="533520" y="79552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609480" y="472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y and M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0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2303280" cy="2187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2" descr=""/>
          <p:cNvPicPr/>
          <p:nvPr/>
        </p:nvPicPr>
        <p:blipFill>
          <a:blip r:embed="rId4"/>
          <a:stretch/>
        </p:blipFill>
        <p:spPr>
          <a:xfrm>
            <a:off x="3962520" y="5638680"/>
            <a:ext cx="1719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6:01:22Z</dcterms:created>
  <dc:creator>Computer Services</dc:creator>
  <dc:description/>
  <dc:language>en-US</dc:language>
  <cp:lastModifiedBy>Windows User</cp:lastModifiedBy>
  <cp:lastPrinted>2004-10-18T14:07:59Z</cp:lastPrinted>
  <dcterms:modified xsi:type="dcterms:W3CDTF">2012-03-15T01:30:11Z</dcterms:modified>
  <cp:revision>31</cp:revision>
  <dc:subject/>
  <dc:title>PowerPoint Presentation</dc:title>
</cp:coreProperties>
</file>